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363A7-493C-459C-9650-DA25CA491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A975E-1757-4107-BF16-8DA729D83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5D1F3-ECA5-49D3-AF22-AAE8E856E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A770D-FFD7-4000-91B8-0C6149EC3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F5826-1F96-4073-BECC-2CB4CDC5C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F3B00-39B2-4FD1-8A32-255338F5A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7F587-6BB4-4C0D-8F68-F63C1BFDD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A5E72-69A6-4D11-BB6A-557894C2F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EED9C-D96C-420F-AC57-885E72520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4171B-8195-410B-9729-75CF81CD4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D0ABA-E820-4A84-B0C5-1BABDBDD3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C6CCD-5549-442A-AD81-A1EFFC041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0995C-3539-4610-85F9-5B17D548EA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133720"/>
            <a:ext cx="9144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Здесь ведь как с дыркой от бублика. Скажем ли мы: "внутри нет ничего", или будем утверждать: "есть дырка", - все это сплошные абстракции, и вкус бублика от них не изменитс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0"/>
            <a:ext cx="9144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рямо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или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декартово произведени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множеств — множество, элементами которого являются всевозможные упорядоченные пары элементов исходных двух множеств. Данное понятие употребляется не только в теории множеств, но также в алгебре, топологии и прочих разделах математики благодаря тому, что прямое произведение часто наследует структуры (алгебраические, топологические и т. д.), существующие на перемножаемых множеств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ейчас термин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тображени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чаще всего называют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функцие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Нестрогое определение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функци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— это «закон», по которому каждому элементу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из некоторого множества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ставится в соответствие единственный элемент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из множества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0"/>
            <a:ext cx="91440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еоретико-множественное определение: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функци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или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тображени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 — это кортеж множеств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), обладающий следующими свойствами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X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декартово произведение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x,y)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f, 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x',y')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f,   x = x'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y = y'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x,y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ля обозначения отображения используются такие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формулы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Y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для отображения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ножества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множество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ножество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называется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областью определения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тображения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F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ножество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называется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областью значений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тображения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лементы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называют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аргументами функци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а соответствующие элементы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 —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значениями функции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0"/>
            <a:ext cx="9144000" cy="68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математике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кортеж —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следовательность конечного числа элементов. Многие математические объекты формально определяются как кортежи. Например, граф определяется как кортеж (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), где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— это набор вершин, а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— подмножество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×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обозначающее рёб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тношение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— математическая структура, которая формально определяет свойства различных объектов и их взаимосвязи. Отношения обычно классифицируются по количеству связываемых объектов (арность) и собственным свойствам (симметричность, транзитивность и пр.).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ормальное определение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тнош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n-местным (n-арным) отношением, заданным на множествах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ru-RU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…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называется подмножество прямого произведения этих множест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ногда понятие отношения определяется только для частного случая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=…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ля отношения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 Тогда факт принадлежности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ки этому отношению можно записать как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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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0"/>
            <a:ext cx="9144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ормулы и первичные символ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Следует рассмотреть, какие первичные символы могут использоваться при записи  формул в алгебраической систем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Это прежде всего числа, переменные, символы арифметических операций: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+, -, *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(умножить), /(разделить); символы логических операций: </a:t>
            </a:r>
            <a:r>
              <a:rPr b="1" i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, </a:t>
            </a:r>
            <a:r>
              <a:rPr b="1" i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(если то), </a:t>
            </a:r>
            <a:r>
              <a:rPr b="1" i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(тогда и только тогда, равнозначность, эквивалентность);  символы операций отношения: </a:t>
            </a:r>
            <a:r>
              <a:rPr b="1" i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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, </a:t>
            </a:r>
            <a:r>
              <a:rPr b="1" i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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, </a:t>
            </a:r>
            <a:r>
              <a:rPr b="1" i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, </a:t>
            </a:r>
            <a:r>
              <a:rPr b="1" i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, </a:t>
            </a:r>
            <a:r>
              <a:rPr b="1" i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, </a:t>
            </a:r>
            <a:r>
              <a:rPr b="1" i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; кванторы предикатов: 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(для всех), </a:t>
            </a:r>
            <a:r>
              <a:rPr b="1" i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(существует); символы операций над множествами: </a:t>
            </a:r>
            <a:r>
              <a:rPr b="1" i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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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(если то), </a:t>
            </a:r>
            <a:r>
              <a:rPr b="0" i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(тогда и только тогда, равнозначность, эквивалентность) ; круглые скобки (, ) для определения последовательности выполнения операций; и д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0"/>
            <a:ext cx="9144000" cy="67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Примеры записи и чтен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000000"/>
                </a:solidFill>
                <a:uFillTx/>
                <a:latin typeface="Times New Roman"/>
              </a:rPr>
              <a:t>Высказывание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xP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) означает, что область истинности предиката P(x) совпадает с областью значений переменной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(«Его можно читать так: Для все значений x высказывание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верно»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Высказывание </a:t>
            </a:r>
            <a:r>
              <a:rPr b="0" lang="ru-RU" sz="22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xP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) означает, что область истинности предиката P(x) непуста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(«Его можно читать так: Существует x при котором высказывание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верно»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Пример записи высказывания с использованием предикатов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)[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Квадратные скобки [ ] задают область определени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Здесь приведена аксиома равенства двух множеств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и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Аксиома читается так: Множества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и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равны, тогда и только тогда,  когда для всех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в области определения выполняется условие: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принадлежит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тогда и только тогда,  когда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принадлежит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Другой пример. Определение </a:t>
            </a:r>
            <a:r>
              <a:rPr b="0" lang="ru-RU" sz="2200" spc="-1" strike="noStrike" u="sng">
                <a:solidFill>
                  <a:srgbClr val="000000"/>
                </a:solidFill>
                <a:uFillTx/>
                <a:latin typeface="Times New Roman"/>
              </a:rPr>
              <a:t>декартова произведения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через предикаты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B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= {(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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y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Определение читается так: Декартово произведение множеств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и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- это множество (фигурные скобки) пар (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) таких, что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принадлежит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и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принадлежит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0"/>
            <a:ext cx="9144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Формальная (аксиоматическая) теор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Формальная (аксиоматическая) теори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формальное исчисление — это понятие, разработанное в рамках формальной логики в качестве основы для формализации теории доказательства. Формальная теория — разновидность дедуктивной теории, где множество теорем выделяется из множества формул путем задания множества аксиом и правил выво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предел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Формальная теори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— эт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конечное множество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имволов, образующих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лфавит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конечное множество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лов в алфавите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i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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которые называются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формулам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подмножество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ормул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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которые называются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ксиомам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множество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тношений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 множестве формул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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ru-RU" sz="2400" spc="-1" strike="noStrike" baseline="30000">
                <a:solidFill>
                  <a:srgbClr val="000000"/>
                </a:solidFill>
                <a:latin typeface="Times New Roman"/>
              </a:rPr>
              <a:t>+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которые называются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авилами вывод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0"/>
            <a:ext cx="9144000" cy="68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Можно сказать, что формальная теория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 это четверк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=&lt;A, F,B,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R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где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A –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алфавит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– множество формул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i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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*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– множество аксиом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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– множество правил вывода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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ru-RU" sz="2000" spc="-1" strike="noStrike" baseline="30000">
                <a:solidFill>
                  <a:srgbClr val="000000"/>
                </a:solidFill>
                <a:latin typeface="Times New Roman"/>
              </a:rPr>
              <a:t>+1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Множество символов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может быть конечным или бесконечным. Обычно для образования символов используют конечное множество букв, к которым при необходимости приписываются в качестве индексов целые числа или выраж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Множество формул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обычно задаётся индуктивным определением, например, с помощью формальной грамматики. Как правило, это множество бесконечно. Множества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и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в совокупности определяют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язык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 или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сигнатуру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 формальной теор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Множество аксиом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может быть конечным или бесконечным. Если множество аксиом бесконечно, то, как правило, оно задаётся с помощью конечного числа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схем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 аксиом и правил порождения конкретных аксиом из схемы аксиом. Обычно аксиомы делятся на два вида: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логические аксиомы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 (общие для целого класса формальных теорий) и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нелогические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 или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собственные аксиомы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 (определяющие специфику и содержание конкретной теории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Множество правил вывода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, как правило, конечн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0"/>
            <a:ext cx="9144000" cy="64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Математическая формул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(от лат. 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formula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— уменьшительное от forma — образ, вид ) — всякая символическая запись (в виде выражения, равенства или неравенства), содержащая какую-либо информацию. По сути это символьные выражения либо точного, либо приближенного, либо неверного соответствия между математическими выражения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Аксиом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(др.-греч. ἀξίωμα — утверждение, положение) или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стулат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 — утверждение (факт), принимаемое истинным без доказательства, а также как «фундамент» для построения доказательст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еорем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(др.-греч. θεώρημα — «зрелище, вид; взгляд; представление, положение») — утверждение, для которого в рассматриваемой теории существует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доказательство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(иначе говоря, вывод). Частным случаем теорем являются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аксиомы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которые принимаются истинными без всяких доказательств или обоснований. Для аксиом доказательством служит пустой выво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математических текстах теоремами обычно называют только достаточно важные утверждения. При этом требуемые доказательства обычно кем-либо найдены (исключение составляют в основном работы по логике, в которых изучается само понятие доказательства, а потому в некоторых случаях теоремами называют даже неопределённые утверждения). Менее важные утверждения-теоремы обычно называют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леммам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предложениями, следствиями, условиями и прочими подобными терминами. Утверждения, о которых неизвестно, являются ли они теоремами, обычно называют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гипотезам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234936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атери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— фундаментальное физическое понятие, связанное с любыми объектами, существующими в природе,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о которых можно судить благодаря ощущениям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0"/>
            <a:ext cx="91440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математике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оказательством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называется цепочка логических умозаключений, показывающая, что при каком-то наборе аксиом и правил вывода верно некоторое утверждение. В зависимости от контекста, может иметься в виду доказательство в рамках некоторой формальной системы (построенная по специальным правилам последовательность утверждений, записанная на формальном языке) или текст на естественном языке, по которому при желании можно восстановить формальное доказательство. Доказанные утверждения в математике называют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теоремам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(в математических текстах обычно подразумевается, что доказательство кем-либо найдено; исключения из этого обычая в основном составляют работы по логике, в которых исследуется само понятие доказательства); если ни утверждение, ни его отрицание ещё не доказаны, то такое утверждение называют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гипотезой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 Иногда в процессе доказательства теоремы выделяются доказательства менее сложных утверждений, называемых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леммам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91440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67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В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Толковом словаре русского языка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В С.И.Ожегова и Н.Ю.Шведовой дается такое определение: цели в нужном для нас смысле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Цель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- 2. Предмет стремления, то, что надо, желательно осуществить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Во всемирной Интернет - энциклопедии (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Википедия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этот термин определяется так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Цель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желаемый результат (предмет стремления); то, что хочется осуществить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чётко описанное желательное состояние, которого необходимо достигнуть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предвосхищаемый в сознании результат деятельности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Это определение практически совпадает с определением Ожегов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В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Большом бухгалтерском словаре,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имеется следующее определение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Цель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1. предмет стремления, то что надо осуществить; задача, которую необходимо решить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2. характеристика поведения системы, направленного на достижение определенного конечного состояния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Обычно формальным выражением Ц. является целевая функция системы. Поведение системы часто удобно описывать в терминах Ц. и средств ее достижения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91440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Заключ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Из выше сказанного можно сделать вывод, что 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формальную теорию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можно охарактеризовать, используя следующие главные компоненты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Основные символы (алфавит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равила образования слов (формул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аксиом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равила выво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Множество 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основных символов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содержит символы для обозначения констант, операторов и т.д. Из этих символов, согласно правилам образования, строятся  утверждения (формулы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ервичные утверждения, истинность которых принимается без доказательства, называются 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аксиомами системы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 соответствии с 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правилами вывода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из истинных утверждений выводятся новые истинные утверждения – теорем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0"/>
            <a:ext cx="91440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Если требуется доказать истинность утверждения в той или иной формальной системе,  то соответствующее доказательство представляет собой такую последовательность утверждений,  в которо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каждое утверждение является аксиомой или его можно получить из одного или более предыдущих утверждений с помощью ряда правил вывод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оследнее утверждение является тем утверждением, которое надо доказа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Для сокращения длины доказательств используют следующие приём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а) утверждения, ранее доказанные как теоремы, вставляются в доказательства без доказательства их истинност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б) некоторые достаточно очевидные утверждения могут быть опущены (использованы неявно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Целевая функц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Функция, связывающая цель (оптимизируемую переменную) с управляемыми переменными в </a:t>
            </a:r>
            <a:r>
              <a:rPr b="0" lang="ru-RU" sz="2200" spc="-1" strike="noStrike" u="sng">
                <a:solidFill>
                  <a:srgbClr val="000000"/>
                </a:solidFill>
                <a:uFillTx/>
                <a:latin typeface="Times New Roman"/>
              </a:rPr>
              <a:t>задаче оптимизации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В широком смысле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целевая функция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есть математическое выражение некоторого критерия качества одного объекта (решения, процесса и т.д.) в сравнении с другим. Цель – найти такие оценки, при которых целевая функция достигает минимум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Важно, что критерий всегда привносится извне, и только после этого ищется правило решения, которое минимизирует или максимизирует целевую функцию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Задачей оптимизации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в математике называется задача о нахождении экстремума (минимума или максимума) вещественной функции в некоторой области. Как правило, рассматриваются области, принадлежащие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и заданные набором равенств и неравенств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60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становка задачи оптимиза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ля того, чтобы корректно поставить задачу оптимизации необходимо задать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Допустимое множество 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— множество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{x</a:t>
            </a:r>
            <a:r>
              <a:rPr b="0" lang="en-U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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, i=1,…,m}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2 Целевую функцию — отображение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Критерий поиск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(max или min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огда решить задачу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значает одно из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 - Показать, что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X=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2 - Показать, что целевая функция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) не ограничен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3 - Найти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x</a:t>
            </a:r>
            <a:r>
              <a:rPr b="0" lang="en-U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f(x</a:t>
            </a:r>
            <a:r>
              <a:rPr b="0" lang="en-U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*)=min f(x</a:t>
            </a:r>
            <a:r>
              <a:rPr b="0" lang="en-U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(x</a:t>
            </a:r>
            <a:r>
              <a:rPr b="0" lang="en-U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4 - Если 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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*, то найти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  f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) 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Если минимизируемая функция не является выпуклой, то часто ограничиваются поиском локальных минимумов и максимумов: точек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таких, что всюду в некоторой их окрестности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) для минимума и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) для максимум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Если допустимое множество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то такая задача называется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задачей безусловной оптимизаци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в противном случае —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задачей условной оптимизаци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9144000" cy="67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Полезность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блага или товара — есть способность его удовлетворять какой-нибудь человеческой потребност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Полезность блага тем выше, чем большему числу потребителей оно служит, чем настоятельнее и распространеннее эти потребности и чем лучше и полнее оно их удовлетворяет. Полезность является необходимым условием для того, чтобы какой-нибудь предмет приобрел меновую ценность. Некоторые экономисты пытались даже построить на Полезности теорию меновой ценности (см. Ценность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Ценность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 — значимость (польза, полезность) некоторого множества объектов для множества живых существ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Употребляется в нескольких смыслах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«Ценность» — как название предмета, обозначающее признание его значимости. Разделяют «Материальные ценности» и «Духовные ценности». Известно понятие «Вечные ценности»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«Ценность» — в экономике — используется как синоним понятию «потребительная стоимость», т.е. значимость, полезность предмета для потребителя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44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Функция полезности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 — экономическая модель для определения предпочтений экономических субъектов. Основоположным условием концепта функции полезности является рациональное поведение потребителя, выражающееся в выборе из многочисленных альтернатив именно тех, которые выводят его на более высокий уровень полезности. В микроэкономике концепт функции полезности служит для объяснения поведения потребителей и производителей, в то время как в макроэкономике им пользуются для изображения предпочтений государственных интересов. Первая производная функции полезности по количеству определённого блага </a:t>
            </a:r>
            <a:r>
              <a:rPr b="0" lang="ru-RU" sz="22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ru-RU" sz="22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i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 называется предельной полезностью этого блага. Предельная полезность выражает, сколько дополнительной полезности приносит дополнительная единица блага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. Предельная полезность, равная 0, означает достижение насыщенност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66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Терминология в алгебраических системах и моделях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Алгебраической системой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(или просто системой)  называется объект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ru-RU" sz="22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ru-RU" sz="22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&gt;, состоящий из трех множеств: непустого множества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, множества </a:t>
            </a:r>
            <a:r>
              <a:rPr b="0" lang="ru-RU" sz="2200" spc="-1" strike="noStrike" u="sng">
                <a:solidFill>
                  <a:srgbClr val="000000"/>
                </a:solidFill>
                <a:uFillTx/>
                <a:latin typeface="Times New Roman"/>
              </a:rPr>
              <a:t>операций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ru-RU" sz="2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, …,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,…} и множества </a:t>
            </a:r>
            <a:r>
              <a:rPr b="0" lang="ru-RU" sz="2200" spc="-1" strike="noStrike" u="sng">
                <a:solidFill>
                  <a:srgbClr val="000000"/>
                </a:solidFill>
                <a:uFillTx/>
                <a:latin typeface="Times New Roman"/>
              </a:rPr>
              <a:t>предикатов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ru-RU" sz="2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,…,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,…}, заданных на множестве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Множество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называется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носителем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или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основным множеством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системы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В отличие от других операций и предикатов, которые могут быть определены на множестве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, операции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и предикаты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называются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основными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или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главными.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Значения главных нульарных операций системы называются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главными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или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выделенными элементами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этой системы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Объединяя множества ,</a:t>
            </a:r>
            <a:r>
              <a:rPr b="0" lang="ru-RU" sz="22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0" lang="ru-RU" sz="22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системы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и полагая </a:t>
            </a:r>
            <a:r>
              <a:rPr b="0" lang="ru-RU" sz="22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= ,</a:t>
            </a:r>
            <a:r>
              <a:rPr b="0" lang="ru-RU" sz="22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, мы можем записать систему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более кратко: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ru-RU" sz="22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&gt;. Очень часто множество </a:t>
            </a:r>
            <a:r>
              <a:rPr b="0" lang="ru-RU" sz="22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называют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сигнатурой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Алгебраическая система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ru-RU" sz="22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&gt; называется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алгеброй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, если </a:t>
            </a:r>
            <a:r>
              <a:rPr b="0" lang="ru-RU" sz="22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ru-RU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, и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моделью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или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реляционной системой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, если </a:t>
            </a:r>
            <a:r>
              <a:rPr b="0" lang="ru-RU" sz="22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ru-RU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9144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n-арная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пераци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на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это отображение прямого произведения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экземпляров множества в само множество 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 По определению,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арная операция — это просто выделенный элемент множества. Чаще всего рассматриваются унарные и бинарные операции, поскольку с ними легче работать. Но в связи с нуждами топологии, алгебры, комбинаторики постепенно накапливается техника работы с операциями большей ар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пераци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 — отображение, ставящее в соответствие одному или нескольким элементам множества (аргументам) другой элемент (значение). Термин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пераци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как правило применяется к арифметическим или логическим операциям, в отличие от термина оператор, который чаще применяется к некоторым отображением множества на себя, имеющим замечательные свой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7524720" y="115920"/>
            <a:ext cx="1619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144000" cy="72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едикат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местный, или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арный) — это функция с множеством значений {0,1} (или «ложь» и «истина»), определённая на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й декартовой степени множества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 Таким образом, каждый набор элементов множества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он характеризует либо как «истинный», либо как «ложный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едикат можно связать с математическим отношением: если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ка принадлежит отношению, то предикат будет возвращать на ней 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Высказыванием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называется утверждение, о котором совершенно точно можно сказать, истинно оно или ложно. Если использовать термин "высказывание", то можно дать другое определение термину "предикат"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ыражение с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еременными, определенными на заданных областях, которое становятся высказыванием при любой подстановке допустимых значений переменных, называется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-местным предикато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едикаты часто записывают в виде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7T13:03:47Z</dcterms:created>
  <dc:creator>User</dc:creator>
  <dc:description/>
  <dc:language>en-US</dc:language>
  <cp:lastModifiedBy>User</cp:lastModifiedBy>
  <dcterms:modified xsi:type="dcterms:W3CDTF">2009-10-19T15:26:17Z</dcterms:modified>
  <cp:revision>18</cp:revision>
  <dc:subject/>
  <dc:title>Слайд 1</dc:title>
</cp:coreProperties>
</file>